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56E1-22C2-4EBF-8595-F8C1910E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753-F4CF-4788-AAE2-9598FD82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D715-AAA3-44C5-865F-692BC0D7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864C-6536-45CC-B9C1-86B05F9A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BB8-4F99-4219-A7CD-98038C78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846E-69B5-430F-AFDC-9716F5B2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F22-B663-4957-B99A-9DB89E0B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7FB0-6F7F-46EE-9263-7375F910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3D27-393F-4A99-9701-369C5F41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83CA-4804-4809-ADA5-68A00552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648-6DC2-4293-94BA-B518DDF9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E820-E957-4B1A-98BC-3F9B19745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B13-D228-417B-B859-90B6582A1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A2B-37F7-46FA-ACE7-647E6A91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2B0-2B56-4E7F-8D19-19CA17EA4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C1E5-854B-48BE-86A4-463FD61F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A8A-1714-418A-A213-7C509B43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E1B-3FCB-4E75-A818-002511B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30A-8B47-4B4A-8AB7-1A7F356B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082-BB7B-4323-A366-4997619A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4E9-7CC1-4045-9A8B-F7CBD76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1C8-E0EE-4E9E-923D-EE081BA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5DB-7F33-4C85-ADFD-44CACC29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CF7-3243-42C1-A1CA-DCEB5FB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441-669A-4923-867B-EA9B7AC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1C5-6BBB-4BBF-A082-67C57F1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689-E8AC-40D7-B6DD-1E74AB0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D1D-6E19-42E8-9454-BE8D733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92E2-67A0-4CCF-968A-C66C09AC85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kelly@iusd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the Primary Curriculu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Application of Depth &amp;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eg Kelly, Meadow Park Elemen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kelly@iusd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14-292-3648 (ce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12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icons as intellectual tools – have magnets vi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ly explain each icon and do short “activity” for a f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 – draw flo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terns – students arrange themselves boy/gir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– thumbs up “gam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ics - $20 on playground, “what would you do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True Story of the 3 Little Pig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othe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students to apply as many icons as they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force with icon match g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troduce icons as you use them in 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osted, “star” those that you’re working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with each story selection and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e understanding of strategy and skill in student’s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use of 3-5 icons to exten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mps to customiz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Graphic Organizers/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phic Organiz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Idea, Details, Multiple Perspectives,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y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M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mp a graphic organizer you alread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Group/Independent Activ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 G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students to apply as many icons as they can to story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day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/weave D&amp;C icons into all areas of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 on board help with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ward students for applying icons on their 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 Classroo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w increased enthusiasm and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inspired by added depth to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rise to higher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pply learning to other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 make connections to vis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Taylor Education (jtayloreducation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mpower Primary and Inspire Change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 Practical Approach to Differentiating the Primary Curricu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y Cynthia Kirk and Katherine Squ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 and Complex Look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tion Smart Reference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pl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the academic language thinking tools of Depth &amp; Complexity and Content Impe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xamples of how to incorporate D&amp;C tools into primary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 will be schol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olarly tra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der/refl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thoughtfu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learn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to a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rn for knowing/build curio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fy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repared to learn and take pride in thei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Depth &amp; Complexity tools can help you build scholarly traits and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epth and Complexity Icons Evol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gifted students with opportunities for higher level thinking an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dra Kaplan, U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used in GATE, upper grade, middle and high scho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th and Complexity Thinking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s, icons or prompts that activate higher levels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itical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omething abstract more conc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udents to “jump” into the content and make sense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expertise and inqui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good teaching strategies - much of it you do alre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s assure that you use these strategies consistently and use them all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provide a common vocabulary and build academ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th -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many single aspects of a single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ing deeper into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oming an expert in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 -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connections across several topics or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ing relationships between seemingly unconnected ideas or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&amp; Complexity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00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 Imperativ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ontribution"/>
          <p:cNvPicPr/>
          <p:nvPr/>
        </p:nvPicPr>
        <p:blipFill>
          <a:blip r:embed="rId1"/>
          <a:stretch/>
        </p:blipFill>
        <p:spPr>
          <a:xfrm>
            <a:off x="990720" y="14479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19520" y="1371600"/>
            <a:ext cx="3429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ffect or impact one person or event has on oth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rigin"/>
          <p:cNvPicPr/>
          <p:nvPr/>
        </p:nvPicPr>
        <p:blipFill>
          <a:blip r:embed="rId2"/>
          <a:stretch/>
        </p:blipFill>
        <p:spPr>
          <a:xfrm>
            <a:off x="990720" y="2476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19520" y="243828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eginning, root, foundation, source, or basis for somet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arallel"/>
          <p:cNvPicPr/>
          <p:nvPr/>
        </p:nvPicPr>
        <p:blipFill>
          <a:blip r:embed="rId3"/>
          <a:stretch/>
        </p:blipFill>
        <p:spPr>
          <a:xfrm>
            <a:off x="990720" y="35812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743200" y="35290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something is similar, matching, comparable, or analog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aradox"/>
          <p:cNvPicPr/>
          <p:nvPr/>
        </p:nvPicPr>
        <p:blipFill>
          <a:blip r:embed="rId4"/>
          <a:stretch/>
        </p:blipFill>
        <p:spPr>
          <a:xfrm>
            <a:off x="990720" y="46483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19520" y="45720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gs that are opposite, contradictory, ironic or illogi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onvergence"/>
          <p:cNvPicPr/>
          <p:nvPr/>
        </p:nvPicPr>
        <p:blipFill>
          <a:blip r:embed="rId5"/>
          <a:stretch/>
        </p:blipFill>
        <p:spPr>
          <a:xfrm>
            <a:off x="990720" y="5715000"/>
            <a:ext cx="1062000" cy="797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971800" y="566244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deas or events meet, intersect, concur, merge, join or un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porating Depth &amp; Complexity Into Your Curricul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require creating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ntegrate the icons into curriculum that already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for all students, not just Challeng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can be applied to any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beneficial for English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icons as a whole and then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1:41:52Z</dcterms:created>
  <dc:creator>Meg Kelly</dc:creator>
  <dc:description/>
  <dc:language>en-US</dc:language>
  <cp:lastModifiedBy>Toni Wilson</cp:lastModifiedBy>
  <dcterms:modified xsi:type="dcterms:W3CDTF">2012-03-07T01:27:05Z</dcterms:modified>
  <cp:revision>221</cp:revision>
  <dc:subject/>
  <dc:title>Depth and Complexity</dc:title>
</cp:coreProperties>
</file>